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EFC-4E27-411F-B870-9D256031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9E2-10CA-4F40-8D6E-8EC20A78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D10A-B284-420B-903E-993B15C7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4FD-CE37-440E-8F91-1862728D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57DE-9456-4618-9A6C-195DFDDF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EA4D-8A00-4063-9EEE-3D7270B6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63B4-A450-47D2-83D8-FEE44C16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658A-7374-4672-92DD-16A50793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7514-CAD5-4BA7-A5E5-9861FFC7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5AD6-3CAD-4BA6-A2D0-AE08B6DD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6F60-9480-475E-9F53-06CE88B1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C13E-D480-4699-8805-13A927C8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C9D7-D966-4D79-A7E6-40A3CF31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5D69-31F4-4F90-8A95-1A1966B8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46A6-2F39-48B3-8866-3A221AEF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CC60-C30B-450B-A048-E3A35F8D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A0E8-4CEA-47D4-8B73-8D7BCCC0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7788-DA85-4948-B1E4-CACE54E8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7205-3932-48A5-8874-9FAEE4C0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D071-9C8F-4D01-854D-AACAD236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48F-1491-4560-9009-052B65AA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E0F5-BD17-48A9-8C36-7E61BFE4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C89-B589-447D-B514-BE5B0329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173-1A49-4F65-B87F-5DE5CE3F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ranklin Gothic Heavy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66ED-8160-4293-B7AB-E14D3D05F58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Franklin Gothic Heavy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544F-6416-4DE8-8074-A4B7722B533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Franklin Gothic Heavy"/>
              </a:rPr>
              <a:t>Algebra 2A</a:t>
            </a:r>
            <a:endParaRPr b="0" lang="en-US" sz="50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2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ranklin Gothic Heavy"/>
              </a:rPr>
              <a:t>Ordered Pairs and Relations</a:t>
            </a: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dered pair shows two related values, x and y in the following form (x, y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relation is a set of ordered pai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 {(1, 2), (2, 3), (9, 8)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ain: a set of all the x values of a re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ge: a set of all the y values of a rela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ranklin Gothic Heavy"/>
              </a:rPr>
              <a:t>Functions</a:t>
            </a: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unction is a set of ordered pairs (a relation) in which no two x values are alik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it a func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(1, 2), (10, 20), (30, 20)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(1, 2), (2, 3), (2, 4)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ranklin Gothic Heavy"/>
              </a:rPr>
              <a:t>Vertical line test</a:t>
            </a: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vertical line meets the graph in two or more places, it is not a fun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62320" y="3352680"/>
          <a:ext cx="434340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352680"/>
                    <a:ext cx="43434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ranklin Gothic Heavy"/>
              </a:rPr>
              <a:t>Evaluating Functions</a:t>
            </a: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 = replaces y = when you are using fun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evaluate functions, plug the value in the parentheses after f for x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2x+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f(2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ranklin Gothic Heavy"/>
              </a:rPr>
              <a:t>Graphing functions</a:t>
            </a: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= 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4457880" cy="45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609480" y="2286000"/>
          <a:ext cx="1600200" cy="281952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ranklin Gothic Heavy"/>
              </a:rPr>
              <a:t>Reading values from a graph</a:t>
            </a: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an x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w a vertical l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point of intersection with the line graph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y value equals f(x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f f(x) if x= -1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181480" y="1752480"/>
          <a:ext cx="3389400" cy="34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752480"/>
                    <a:ext cx="338940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 flipV="1">
            <a:off x="6553080" y="1904760"/>
            <a:ext cx="0" cy="3276360"/>
          </a:xfrm>
          <a:prstGeom prst="line">
            <a:avLst/>
          </a:prstGeom>
          <a:ln w="5076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ranklin Gothic Heavy"/>
              </a:rPr>
              <a:t>Operations on functions</a:t>
            </a: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= x+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(x)= 3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um of two function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+g)(x) = f(x) +g(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fference of two function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-g)(x) = f(x)-g(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oduct of two func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 * g)(x) = f(x) * g(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quotient of two func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÷ g)(x) = f(x) ÷ g(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5:22:35Z</dcterms:created>
  <dc:creator>nuhs</dc:creator>
  <dc:description/>
  <dc:language>en-US</dc:language>
  <cp:lastModifiedBy>nuhs</cp:lastModifiedBy>
  <dcterms:modified xsi:type="dcterms:W3CDTF">2007-09-12T19:11:18Z</dcterms:modified>
  <cp:revision>7</cp:revision>
  <dc:subject/>
  <dc:title>Algebra 2A</dc:title>
</cp:coreProperties>
</file>